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10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B0C4-76C9-4A5F-A7DB-DF5C91383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2CEF-CDCA-4DC9-8DDC-9E2DE0447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02A53A-C67D-43E1-9A16-C7CFB0E8B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44A657-048D-4965-9E02-398EF9A01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E1AAC4-6DDA-438F-85D6-59E12145D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8EA67C-FC8B-4248-BD7C-35A1AF25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013171-2AD7-4E97-BF07-D7AAFAF1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EACBB1-CE35-4D5F-A5FD-1F776B36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76191C-DF7C-4EC9-B55F-DFBE99F30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ADD918-3830-49F7-896D-A4AEC2D19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6E0BE6-F8C2-49AB-88E6-908BF3D02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988EAD-BA13-4C8B-A423-F6658902F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520B-D6D6-40FC-AE13-2BAA18DDD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DF7B6C-D238-48D1-A112-475409F7A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690434-035B-41E9-A259-BF3346631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3D5842-CC06-4E5B-9655-EB213EF13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E87E2B-B192-47D0-9A3B-7299CC9EB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4B379B-37A2-40DD-804D-E4AF33A16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4479BC-E0E8-4B2B-AD26-1EF6768A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D4EDDA-9832-4451-BE80-983AAF95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9D58C5-6A4E-4E06-917A-1104D060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DEF653-C1E5-4263-91C9-35B31C185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8D4CD2-1713-49C6-A7C8-B8544D699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38F8-5DD1-46D3-8462-75D531625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A2EB71-7C49-45EA-A19F-F293CA687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56CD36-CE55-4553-A934-B5EBA572E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596088-1D60-498D-918A-657076088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8AF672-EAAE-46A4-92D2-2F51A57F8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B8ACE7-C34F-4D78-9EE6-D68F3D437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1AE0AE-2672-4B32-911A-D47B0F3BE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E6D290-4CDF-4EAF-A258-27A0B2BC2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A182D6-50CC-481D-A702-0D22ABBD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BA4A89-D8C6-41DC-AC58-A2ABA238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C66A91-61AC-412B-BD38-7087DB65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5953A-CA48-44B5-963F-2CA80D046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FBE3CC-B38B-48B6-BF78-FEC1FE348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8B3EA8-B620-40C3-9BE3-42AD72BB6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585DE7-D2E4-4C22-A68E-E025E7F9B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2B2512-7563-4687-919C-87708B06A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629E04-808D-485B-8C99-CC7670974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636A44-3572-45D2-B667-EAAC0DB7E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26DEAE-E74E-4804-921C-2839A8C9D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147D5A-A50E-4506-9E40-792FDB125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EEC42B-6438-4687-9F20-7A9F1219F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0FA2B1-C574-40D4-9D9C-4F7E1139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9469C-4A0B-4D42-AA82-A14DA32D1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81F455-7078-431F-BF1B-72E5D2FE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A66B0A-45F1-4F1D-8789-B50BEF00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08AFE3-3418-4FC7-B755-C96FF7458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113863-8B81-413A-A721-1C55EE1EF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6FC252-34AC-488F-A1A8-123A614A0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FD83B-6FB5-4EAE-8C6B-B6013E755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11ABA-B445-471E-8080-F267D007A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9798F-0CB0-43B3-8518-ECB6A718A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0632D-452E-4A7B-844C-E619F7370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379C5-5E3A-4D57-9E8B-38C3EDD0A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31AA-416D-4F27-9C61-76EB29014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E6FE9-6A0E-423B-9FDF-0A7BCEC0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55859-928F-4C1A-86B8-AF60EFC2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5B9A2-2542-485A-BB4B-3139DFC96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C9C79-E513-46BA-9F23-5A8C2C3F8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061E3-E7A8-43A7-8123-F02CDD11C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261A5-D8D7-420A-A73A-211F0041A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46332-F27F-4036-BFC1-F70F60084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1C9D9-A7E9-4C89-83FC-0959A61B2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95F4B-9D64-4071-BC38-983877D1A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7C6DC-D87A-42A8-A67F-803FE84E5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185F-A38C-41E6-B3AB-C7713D1C6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0B3ED-521E-4A12-A2FE-B819118F9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729FB-1D1B-4CC7-BB9C-65C7153A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7F95E-9FD3-4E11-B1F0-9FCC21F4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C487D-AA8E-4E30-A39F-6272336E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7B82E-E826-4F2A-A3DF-1894BE7B5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F13AB-037A-42A2-88A3-9AE7B9456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D89F6-FDD1-4BD7-8810-D95C59B21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539C6-17D9-42A9-B0E1-F68939C6E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115A2-1F41-457B-B4BB-13A6E9E6D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14DA4-DB38-407B-8ACD-C116307A2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31BE-E336-4AC8-A9E6-FAA40230F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D135B-B224-462F-97E7-02C539957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5B53E-8F10-4846-B0D9-0897584FC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A7141-DDD3-4086-99C7-5A0C757DF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64930-F196-481E-87C1-41244410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95956-952D-425B-9805-69E26AC8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18FCC-4543-4037-9E5B-1FFBA27F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A1407-46F6-48EF-BC27-500C55C19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B9EA0-9A77-4335-9449-7CD6BF690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9072E-B690-41C1-95DC-58214A216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AE268-2CFF-469B-8B6C-079AB6CE7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1578-182F-4726-9A64-EFD2251FA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B47C6-87BB-4AD3-AE6F-D06838011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DAA45-4DDE-4E51-94F9-63151B5BC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53F90-E866-4D9F-B920-96CA607AD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9C87A-7535-45B3-99E4-025F54800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A105D-BEA0-40F6-9628-A14BFCA4F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F8A98-40D7-4C02-9234-CFFD7FC7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4C7E2-9FF1-43D9-BEC7-606F435E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8F5E6-9731-45E2-A83C-E02F064B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80E3B-612B-48ED-B285-13E7331DB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FCE43-50D1-4531-AD18-50B9781D2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3B4D-D4D4-4671-AAF5-D66156583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E218D-044B-4D20-851A-020AB8518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09485-22E2-4B1B-8F1E-5B07F49F7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E4EE3-0832-486B-80EC-466EC6C92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4F40A-83F2-4202-B06F-78A18258A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E6F87-4360-4B87-BAD7-AD76F2FA6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666267-2B43-497C-85A3-77AA32294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E2EEF2-0356-4605-903E-A24E76CC5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EDD06-8EF1-4555-8CD4-B4F32EE3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713EC-2F9C-421F-9F2C-05249F84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3A1647-722D-4639-BAFF-242F77E3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C206-B23A-419F-85E2-DB46F4B1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D3C663-4DEE-454A-92EF-4DBF25DB8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C98BD-D96D-49BE-8C37-91F0BE46A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C26ED-E284-4528-8E27-FFC21B9D9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BE633C-BA97-4809-AAAC-7A00F01AB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BBEC97-F3D0-43AF-B633-D103050A4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B12FE5-983D-4DC5-97F2-04F92355B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E70B02-5F22-49F8-B50D-01BE36D93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7419A3-3A04-4812-92C3-429571538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8541E-0607-488C-BA87-9ED874464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26257A-5ADA-45B7-B7B6-BB43CF3C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D6A9-D777-49AC-8E56-1FE8AA90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B9DB87-CC9D-4C00-9CB1-EB304C04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F55417-5345-4963-88D9-6EA2CF20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29B7BF-6823-44D4-AFC1-A35AF3030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A53C4B-766E-458D-A171-E96EF77D3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7AB50-D9E4-4A67-A667-70BD68CE9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7D75DD-F58D-4A27-8106-654B5342E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10EFE4-676F-4AA4-B72C-761DCE944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71E2C1-DF68-4EAA-937A-1376FB16E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F26F50-DC89-47EE-90DD-465DD5908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748A22-A8CE-4C1F-8049-78D115962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319E-EE41-4F31-AAD3-1E8A5EC3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225028-D0CC-446D-ACC3-395756192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829062-4C64-4ECC-B159-B8C9CC52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5EFC29-0581-4E45-A5F4-4EEE53A4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2010C6-5FB9-4059-89E0-4238C7ED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CFBCEF-2617-461D-8A3D-C8E8788BF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91D1A-4644-498E-973B-7DC031F6F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E763FF-5D3B-4179-AA5C-6A0062D4F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8AF700-F494-42BD-A9CC-C1738F4A2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647FAC-15D0-4DD3-9305-E30F9C963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78DE31-920E-4722-9A87-DE97DA624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BF4AE-B389-4CA1-94C4-F609FE85B321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D88BC-7760-4F37-B8AB-0F78B4DFE388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74AE6-3C79-45BF-9D0D-0FEC34078F61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DE533-05C1-4D4C-9B87-25C6711DE120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9D80E-7FDE-4AFC-815B-8BC5313D7C26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BCA5B-389E-415B-AB64-EC4001BE179F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0C003-3425-49D6-8B3C-FA24CE6C6746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1f497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E51DA-5612-4329-AEDC-D6DBA8C421A8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1f497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48DF9-609D-4817-843C-6C14E5BCFCE3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9598E-5198-4966-9B86-8F158DF0EDA2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C5A8E-DF63-408D-A17C-3F183435B5F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D5CF4-803B-4CEA-8ABC-87EECAECE2BD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Georgia"/>
              </a:rPr>
              <a:t>TECHNICAL COMMITTEE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Georgia"/>
              </a:rPr>
              <a:t>OCTOBER 8-9, 2013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f81bd"/>
                </a:solidFill>
                <a:latin typeface="Georgia"/>
              </a:rPr>
              <a:t>Characterization of Dissolved Solids in the Ohio River</a:t>
            </a:r>
            <a:endParaRPr b="0" lang="en-US" sz="38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608" name="Picture 2" descr=""/>
          <p:cNvPicPr/>
          <p:nvPr/>
        </p:nvPicPr>
        <p:blipFill>
          <a:blip r:embed="rId1"/>
          <a:stretch/>
        </p:blipFill>
        <p:spPr>
          <a:xfrm>
            <a:off x="3581280" y="4114800"/>
            <a:ext cx="211464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066320" y="-15264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8a44d"/>
                </a:solidFill>
                <a:latin typeface="Georgia"/>
              </a:rPr>
              <a:t>How does ionic composition vary spatially?</a:t>
            </a:r>
            <a:endParaRPr b="0" lang="en-US" sz="30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301320" y="1527120"/>
            <a:ext cx="6327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eorgi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decreases from upstream to dow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451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Georgia"/>
              </a:rPr>
              <a:t>36% at mile 12 to 21% at mile 978</a:t>
            </a:r>
            <a:endParaRPr b="0" lang="en-US" sz="1800" spc="-1" strike="noStrike">
              <a:solidFill>
                <a:srgbClr val="1f497d"/>
              </a:solidFill>
              <a:latin typeface="Georgia"/>
            </a:endParaRPr>
          </a:p>
          <a:p>
            <a:pPr lvl="1" marL="547560" indent="-272880">
              <a:spcBef>
                <a:spcPts val="451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Georgia"/>
              </a:rPr>
              <a:t>Beaver R. 19%; Big Sandy 42%</a:t>
            </a:r>
            <a:endParaRPr b="0" lang="en-US" sz="1800" spc="-1" strike="noStrike">
              <a:solidFill>
                <a:srgbClr val="1f497d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H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eorgi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doubles from 19% in Pittsburgh to 38% in Cairo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alcium remains fairly consistent (13-16%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l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eorgi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shows general decline from 14.5% at mile 137 to 8.8% at mile 792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451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Georgia"/>
              </a:rPr>
              <a:t>Big Sandy 4%; Beaver R. 19%</a:t>
            </a:r>
            <a:endParaRPr b="0" lang="en-US" sz="1800" spc="-1" strike="noStrike">
              <a:solidFill>
                <a:srgbClr val="1f497d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odium decreases moving downstream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451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Georgia"/>
              </a:rPr>
              <a:t>11% in Pittsburgh to 7% in Cairo</a:t>
            </a:r>
            <a:endParaRPr b="0" lang="en-US" sz="1800" spc="-1" strike="noStrike">
              <a:solidFill>
                <a:srgbClr val="1f497d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Bromide generally highest in upper river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4" name="Content Placeholder 4" descr=""/>
          <p:cNvPicPr/>
          <p:nvPr/>
        </p:nvPicPr>
        <p:blipFill>
          <a:blip r:embed="rId1"/>
          <a:stretch/>
        </p:blipFill>
        <p:spPr>
          <a:xfrm>
            <a:off x="5450040" y="1596960"/>
            <a:ext cx="3700440" cy="428616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5" descr="O:\Dionex Pictures\Dionex 1.jpg"/>
          <p:cNvPicPr/>
          <p:nvPr/>
        </p:nvPicPr>
        <p:blipFill>
          <a:blip r:embed="rId2"/>
          <a:stretch/>
        </p:blipFill>
        <p:spPr>
          <a:xfrm>
            <a:off x="6786720" y="2325600"/>
            <a:ext cx="1976400" cy="24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Chart 3" descr=""/>
          <p:cNvPicPr/>
          <p:nvPr/>
        </p:nvPicPr>
        <p:blipFill>
          <a:blip r:embed="rId1"/>
          <a:stretch/>
        </p:blipFill>
        <p:spPr>
          <a:xfrm>
            <a:off x="231840" y="281160"/>
            <a:ext cx="8680320" cy="62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1320" y="3078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8a44d"/>
                </a:solidFill>
                <a:latin typeface="Georgia"/>
              </a:rPr>
              <a:t>What are the implications of the ion composition on the regulation of dissolved solids?</a:t>
            </a:r>
            <a:endParaRPr b="0" lang="en-US" sz="30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DS standard is 500 mg/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76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f497d"/>
                </a:solidFill>
                <a:latin typeface="Georgia"/>
              </a:rPr>
              <a:t>Note: This study does not address appropriateness of numeric value</a:t>
            </a:r>
            <a:endParaRPr b="0" lang="en-US" sz="1900" spc="-1" strike="noStrike">
              <a:solidFill>
                <a:srgbClr val="1f497d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RSANCO has standards for two individual ion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Georgia"/>
              </a:rPr>
              <a:t>Sulfate – 250 mg/L; chloride – 250 mg/L</a:t>
            </a:r>
            <a:endParaRPr b="0" lang="en-US" sz="2000" spc="-1" strike="noStrike">
              <a:solidFill>
                <a:srgbClr val="1f497d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ulfate and chloride combined account for 43% of TD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Georgia"/>
              </a:rPr>
              <a:t>Sulfate – 31%; chloride – 12%</a:t>
            </a:r>
            <a:endParaRPr b="0" lang="en-US" sz="2000" spc="-1" strike="noStrike">
              <a:solidFill>
                <a:srgbClr val="1f497d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ince the sum of the standards for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eorgi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and Cl are equal to the standard for TDS, it is possible to not exceed the individual ion criteria and yet have TDS levels well above 500 mg/L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refore, indirectly regulating TDS through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eorgi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and Cl alone is not sufficient to ensure TDS levels remain below 500 mg/L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8a44d"/>
                </a:solidFill>
                <a:latin typeface="Georgia"/>
              </a:rPr>
              <a:t>What is the relationship of TDS and conductivity in the Ohio River?</a:t>
            </a:r>
            <a:endParaRPr b="0" lang="en-US" sz="30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301680" y="1527120"/>
            <a:ext cx="4194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onductivity sometimes used as surrogate for TD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5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0.67 is commonly used to convert conductivity to TD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5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Reported conversion factors range from 0.5 to nearly 1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400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Georgia"/>
              </a:rPr>
              <a:t>Conv. factor depends on ionic composition</a:t>
            </a:r>
            <a:endParaRPr b="0" lang="en-US" sz="1600" spc="-1" strike="noStrike">
              <a:solidFill>
                <a:srgbClr val="1f497d"/>
              </a:solidFill>
              <a:latin typeface="Georgia"/>
            </a:endParaRPr>
          </a:p>
          <a:p>
            <a:pPr marL="272880" indent="-272880">
              <a:spcBef>
                <a:spcPts val="45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ompared TDS to specific conductanc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5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Ohio River conversion factors ranged from 0.55 to 0.58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5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ould overestimate TDS by 20% using 0.67 conv. factor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5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1" name="Content Placeholder 4" descr=""/>
          <p:cNvPicPr/>
          <p:nvPr/>
        </p:nvPicPr>
        <p:blipFill>
          <a:blip r:embed="rId1"/>
          <a:stretch/>
        </p:blipFill>
        <p:spPr>
          <a:xfrm>
            <a:off x="5450040" y="1596960"/>
            <a:ext cx="3700440" cy="4286160"/>
          </a:xfrm>
          <a:prstGeom prst="rect">
            <a:avLst/>
          </a:prstGeom>
          <a:ln w="0">
            <a:noFill/>
          </a:ln>
        </p:spPr>
      </p:pic>
      <p:pic>
        <p:nvPicPr>
          <p:cNvPr id="652" name="Chart 7" descr=""/>
          <p:cNvPicPr/>
          <p:nvPr/>
        </p:nvPicPr>
        <p:blipFill>
          <a:blip r:embed="rId2"/>
          <a:stretch/>
        </p:blipFill>
        <p:spPr>
          <a:xfrm>
            <a:off x="4413240" y="1596960"/>
            <a:ext cx="457848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omparison of Bromide to THMs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654" name="Content Placeholder 4" descr=""/>
          <p:cNvPicPr/>
          <p:nvPr/>
        </p:nvPicPr>
        <p:blipFill>
          <a:blip r:embed="rId1"/>
          <a:stretch/>
        </p:blipFill>
        <p:spPr>
          <a:xfrm>
            <a:off x="5450040" y="1596960"/>
            <a:ext cx="3700440" cy="4286160"/>
          </a:xfrm>
          <a:prstGeom prst="rect">
            <a:avLst/>
          </a:prstGeom>
          <a:ln w="0">
            <a:noFill/>
          </a:ln>
        </p:spPr>
      </p:pic>
      <p:sp>
        <p:nvSpPr>
          <p:cNvPr id="65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mpared THMs in finished water to bromide levels in source wat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hallenges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Georgia"/>
              </a:rPr>
              <a:t>Most plants only collect THM data quarterly</a:t>
            </a:r>
            <a:endParaRPr b="0" lang="en-US" sz="2200" spc="-1" strike="noStrike">
              <a:solidFill>
                <a:srgbClr val="1f497d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Limits number of paired data sets for comparis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Georgia"/>
              </a:rPr>
              <a:t>Many non-detects for bromide, especially early in study period</a:t>
            </a:r>
            <a:endParaRPr b="0" lang="en-US" sz="2200" spc="-1" strike="noStrike">
              <a:solidFill>
                <a:srgbClr val="1f497d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urther limits paired data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Georgia"/>
              </a:rPr>
              <a:t>Lag time between raw water sample collection and travel time through treatment plant</a:t>
            </a:r>
            <a:endParaRPr b="0" lang="en-US" sz="2200" spc="-1" strike="noStrike">
              <a:solidFill>
                <a:srgbClr val="1f497d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Georgia"/>
              </a:rPr>
              <a:t>Not all utilities collect THMs on plant effluent</a:t>
            </a:r>
            <a:endParaRPr b="0" lang="en-US" sz="2200" spc="-1" strike="noStrike">
              <a:solidFill>
                <a:srgbClr val="1f497d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01320" y="3078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8a44d"/>
                </a:solidFill>
                <a:latin typeface="Georgia"/>
              </a:rPr>
              <a:t>How does bromide in source water compare to TTHMs in finished water?</a:t>
            </a:r>
            <a:endParaRPr b="0" lang="en-US" sz="30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480060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Bromide vs TTHMs compared across all site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Bromide: 40 to 150 ug/L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TTHMs: 10 to 130 ug/L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No clear pattern when all sites grouped together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Georgia"/>
              </a:rPr>
              <a:t>Highest bromide values did not correspond to highest TTHMs</a:t>
            </a:r>
            <a:endParaRPr b="0" lang="en-US" sz="2200" spc="-1" strike="noStrike">
              <a:solidFill>
                <a:srgbClr val="1f497d"/>
              </a:solidFill>
              <a:latin typeface="Georgia"/>
            </a:endParaRPr>
          </a:p>
        </p:txBody>
      </p:sp>
      <p:pic>
        <p:nvPicPr>
          <p:cNvPr id="658" name="Chart 6" descr=""/>
          <p:cNvPicPr/>
          <p:nvPr/>
        </p:nvPicPr>
        <p:blipFill>
          <a:blip r:embed="rId1"/>
          <a:stretch/>
        </p:blipFill>
        <p:spPr>
          <a:xfrm>
            <a:off x="-6480" y="1822320"/>
            <a:ext cx="517536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8a44d"/>
                </a:solidFill>
                <a:latin typeface="Georgia"/>
              </a:rPr>
              <a:t>How does bromide in source water compare to TTHMs in finished water?</a:t>
            </a:r>
            <a:endParaRPr b="0" lang="en-US" sz="30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660" name="Content Placeholder 4" descr=""/>
          <p:cNvPicPr/>
          <p:nvPr/>
        </p:nvPicPr>
        <p:blipFill>
          <a:blip r:embed="rId1"/>
          <a:stretch/>
        </p:blipFill>
        <p:spPr>
          <a:xfrm>
            <a:off x="5450040" y="1596960"/>
            <a:ext cx="3700440" cy="4286160"/>
          </a:xfrm>
          <a:prstGeom prst="rect">
            <a:avLst/>
          </a:prstGeom>
          <a:ln w="0">
            <a:noFill/>
          </a:ln>
        </p:spPr>
      </p:pic>
      <p:pic>
        <p:nvPicPr>
          <p:cNvPr id="661" name="Chart 6" descr=""/>
          <p:cNvPicPr/>
          <p:nvPr/>
        </p:nvPicPr>
        <p:blipFill>
          <a:blip r:embed="rId2"/>
          <a:stretch/>
        </p:blipFill>
        <p:spPr>
          <a:xfrm>
            <a:off x="-6480" y="1822320"/>
            <a:ext cx="5175360" cy="3889440"/>
          </a:xfrm>
          <a:prstGeom prst="rect">
            <a:avLst/>
          </a:prstGeom>
          <a:ln w="0">
            <a:noFill/>
          </a:ln>
        </p:spPr>
      </p:pic>
      <p:pic>
        <p:nvPicPr>
          <p:cNvPr id="662" name="Chart 8" descr=""/>
          <p:cNvPicPr/>
          <p:nvPr/>
        </p:nvPicPr>
        <p:blipFill>
          <a:blip r:embed="rId3"/>
          <a:stretch/>
        </p:blipFill>
        <p:spPr>
          <a:xfrm>
            <a:off x="3975120" y="1822320"/>
            <a:ext cx="517536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8a44d"/>
                </a:solidFill>
                <a:latin typeface="Georgia"/>
              </a:rPr>
              <a:t>General Bromide/THM Observations</a:t>
            </a:r>
            <a:endParaRPr b="0" lang="en-US" sz="30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664" name="Content Placeholder 4" descr=""/>
          <p:cNvPicPr/>
          <p:nvPr/>
        </p:nvPicPr>
        <p:blipFill>
          <a:blip r:embed="rId1"/>
          <a:stretch/>
        </p:blipFill>
        <p:spPr>
          <a:xfrm>
            <a:off x="5450040" y="1596960"/>
            <a:ext cx="3700440" cy="4286160"/>
          </a:xfrm>
          <a:prstGeom prst="rect">
            <a:avLst/>
          </a:prstGeom>
          <a:ln w="0">
            <a:noFill/>
          </a:ln>
        </p:spPr>
      </p:pic>
      <p:sp>
        <p:nvSpPr>
          <p:cNvPr id="66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Hays Mine experienced highest TTHM levels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374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f497d"/>
                </a:solidFill>
                <a:latin typeface="Georgia"/>
              </a:rPr>
              <a:t>No clear relationship with bromide</a:t>
            </a:r>
            <a:endParaRPr b="0" lang="en-US" sz="1500" spc="-1" strike="noStrike">
              <a:solidFill>
                <a:srgbClr val="1f497d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150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1f497d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Wheeling’s only TTHM sample over 80 ug/L corresponded to a non-detect for bromide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15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Cincinnati and Cairo had very low TTHM levels, even at higher bromide concentrations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15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PWSA data comparison showed the strongest positive correlation between bromide and TTHMs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374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f497d"/>
                </a:solidFill>
                <a:latin typeface="Georgia"/>
              </a:rPr>
              <a:t>Brominated THMs relative abundance greater with higher bromide levels</a:t>
            </a:r>
            <a:endParaRPr b="0" lang="en-US" sz="1500" spc="-1" strike="noStrike">
              <a:solidFill>
                <a:srgbClr val="1f497d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15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Large # of variables make it difficult to compare across utilities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However, many individual sites had insufficient data to discern relationship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Need more intensive monitoring to evaluate relationship between bromide and THMs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8a44d"/>
                </a:solidFill>
                <a:latin typeface="Georgia"/>
              </a:rPr>
              <a:t>General Bromide/THM Observations</a:t>
            </a:r>
            <a:endParaRPr b="0" lang="en-US" sz="30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667" name="Content Placeholder 4" descr=""/>
          <p:cNvPicPr/>
          <p:nvPr/>
        </p:nvPicPr>
        <p:blipFill>
          <a:blip r:embed="rId1"/>
          <a:stretch/>
        </p:blipFill>
        <p:spPr>
          <a:xfrm>
            <a:off x="5450040" y="1596960"/>
            <a:ext cx="3700440" cy="4286160"/>
          </a:xfrm>
          <a:prstGeom prst="rect">
            <a:avLst/>
          </a:prstGeom>
          <a:ln w="0">
            <a:noFill/>
          </a:ln>
        </p:spPr>
      </p:pic>
      <p:sp>
        <p:nvSpPr>
          <p:cNvPr id="66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Results inconclusive to define relationship between bromide and THM formation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201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f497d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High bromide levels did not consistently correlate with high THM concentrations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PWSA data comparison showed the strongest correlation between bromide and TTHMs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2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1f497d"/>
                </a:solidFill>
                <a:latin typeface="Georgia"/>
              </a:rPr>
              <a:t>% brominated THMs greater with higher bromide levels</a:t>
            </a:r>
            <a:endParaRPr b="0" lang="en-US" sz="1700" spc="-1" strike="noStrike">
              <a:solidFill>
                <a:srgbClr val="1f497d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Large # of variables make it difficult to compare across utilities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However, many individual sites had insufficient data to discern relationship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Need more intensive monitoring to evaluate relationship between bromide and THMs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omments Received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issolved solids report distributed to 4 committees for review and comment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730080" indent="-457200">
              <a:spcBef>
                <a:spcPts val="550"/>
              </a:spcBef>
              <a:buClr>
                <a:srgbClr val="c0504d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Georgia"/>
              </a:rPr>
              <a:t>Technical Committee</a:t>
            </a:r>
            <a:endParaRPr b="0" lang="en-US" sz="2200" spc="-1" strike="noStrike">
              <a:solidFill>
                <a:srgbClr val="1f497d"/>
              </a:solidFill>
              <a:latin typeface="Georgia"/>
            </a:endParaRPr>
          </a:p>
          <a:p>
            <a:pPr lvl="1" marL="730080" indent="-457200">
              <a:spcBef>
                <a:spcPts val="550"/>
              </a:spcBef>
              <a:buClr>
                <a:srgbClr val="c0504d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Georgia"/>
              </a:rPr>
              <a:t>ORSANCO/Ohio River Users Advisory Committee</a:t>
            </a:r>
            <a:endParaRPr b="0" lang="en-US" sz="2200" spc="-1" strike="noStrike">
              <a:solidFill>
                <a:srgbClr val="1f497d"/>
              </a:solidFill>
              <a:latin typeface="Georgia"/>
            </a:endParaRPr>
          </a:p>
          <a:p>
            <a:pPr lvl="1" marL="730080" indent="-457200">
              <a:spcBef>
                <a:spcPts val="550"/>
              </a:spcBef>
              <a:buClr>
                <a:srgbClr val="c0504d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Georgia"/>
              </a:rPr>
              <a:t>Water Users Advisory Committee</a:t>
            </a:r>
            <a:endParaRPr b="0" lang="en-US" sz="2200" spc="-1" strike="noStrike">
              <a:solidFill>
                <a:srgbClr val="1f497d"/>
              </a:solidFill>
              <a:latin typeface="Georgia"/>
            </a:endParaRPr>
          </a:p>
          <a:p>
            <a:pPr lvl="1" marL="730080" indent="-457200">
              <a:spcBef>
                <a:spcPts val="550"/>
              </a:spcBef>
              <a:buClr>
                <a:srgbClr val="c0504d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Georgia"/>
              </a:rPr>
              <a:t>Stream Criteria Subcommittee</a:t>
            </a:r>
            <a:endParaRPr b="0" lang="en-US" sz="2200" spc="-1" strike="noStrike">
              <a:solidFill>
                <a:srgbClr val="1f497d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eceived responses from 10 individual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Background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01320" y="16765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mmission adopted 500 mg/L standard for TDS in June 2011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ivers Users Program developed study to investigate TDS and major ion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ater Users simultaneously proposed similar study for bromid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ntegrated the two study designs for cost efficiencies and more robust data set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Summary of Comments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General comment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36400" indent="-267120">
              <a:lnSpc>
                <a:spcPct val="80000"/>
              </a:lnSpc>
              <a:spcBef>
                <a:spcPts val="499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Georgia"/>
              </a:rPr>
              <a:t>Various spelling/grammatical edits</a:t>
            </a:r>
            <a:endParaRPr b="0" lang="en-US" sz="2000" spc="-1" strike="noStrike">
              <a:solidFill>
                <a:srgbClr val="1f497d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Specific conductance/TDS relationship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36400" indent="-267120">
              <a:lnSpc>
                <a:spcPct val="80000"/>
              </a:lnSpc>
              <a:spcBef>
                <a:spcPts val="499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Georgia"/>
              </a:rPr>
              <a:t>Need to more clearly state recommendation regarding use of specific conductance to TDS conversion factors</a:t>
            </a:r>
            <a:endParaRPr b="0" lang="en-US" sz="2000" spc="-1" strike="noStrike">
              <a:solidFill>
                <a:srgbClr val="1f497d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Bromide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36400" indent="-267120">
              <a:lnSpc>
                <a:spcPct val="80000"/>
              </a:lnSpc>
              <a:spcBef>
                <a:spcPts val="499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Georgia"/>
              </a:rPr>
              <a:t>Need to highlight data limitations in comparing bromide to THMs</a:t>
            </a:r>
            <a:endParaRPr b="0" lang="en-US" sz="2000" spc="-1" strike="noStrike">
              <a:solidFill>
                <a:srgbClr val="1f497d"/>
              </a:solidFill>
              <a:latin typeface="Georgia"/>
            </a:endParaRPr>
          </a:p>
          <a:p>
            <a:pPr lvl="1" marL="536400" indent="-267120">
              <a:lnSpc>
                <a:spcPct val="80000"/>
              </a:lnSpc>
              <a:spcBef>
                <a:spcPts val="499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Georgia"/>
              </a:rPr>
              <a:t>Correlation of bromide to flow by site may help differentiate natural vs man-made sources</a:t>
            </a:r>
            <a:endParaRPr b="0" lang="en-US" sz="2000" spc="-1" strike="noStrike">
              <a:solidFill>
                <a:srgbClr val="1f497d"/>
              </a:solidFill>
              <a:latin typeface="Georgia"/>
            </a:endParaRPr>
          </a:p>
          <a:p>
            <a:pPr lvl="1" marL="536400" indent="-267120">
              <a:lnSpc>
                <a:spcPct val="80000"/>
              </a:lnSpc>
              <a:spcBef>
                <a:spcPts val="499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Georgia"/>
              </a:rPr>
              <a:t>Correlation to TTHMs is flawed; many other contributing factors</a:t>
            </a:r>
            <a:endParaRPr b="0" lang="en-US" sz="2000" spc="-1" strike="noStrike">
              <a:solidFill>
                <a:srgbClr val="1f497d"/>
              </a:solidFill>
              <a:latin typeface="Georgia"/>
            </a:endParaRPr>
          </a:p>
          <a:p>
            <a:pPr lvl="1" marL="536400" indent="-267120">
              <a:lnSpc>
                <a:spcPct val="80000"/>
              </a:lnSpc>
              <a:spcBef>
                <a:spcPts val="499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Georgia"/>
              </a:rPr>
              <a:t>TDS not the right parameter to limit bromide.  May need to develop bromide standard once relationship to THM formation is better understood.</a:t>
            </a:r>
            <a:endParaRPr b="0" lang="en-US" sz="2000" spc="-1" strike="noStrike">
              <a:solidFill>
                <a:srgbClr val="1f497d"/>
              </a:solidFill>
              <a:latin typeface="Georgia"/>
            </a:endParaRPr>
          </a:p>
          <a:p>
            <a:pPr lvl="1" marL="536400" indent="-267120">
              <a:lnSpc>
                <a:spcPct val="80000"/>
              </a:lnSpc>
              <a:spcBef>
                <a:spcPts val="499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Georgia"/>
              </a:rPr>
              <a:t>Need more site specific data to evaluate potential need for ambient water quality criterion</a:t>
            </a:r>
            <a:endParaRPr b="0" lang="en-US" sz="2000" spc="-1" strike="noStrike">
              <a:solidFill>
                <a:srgbClr val="1f497d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Summary of Comments (cont)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TD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19840" indent="-259200">
              <a:lnSpc>
                <a:spcPct val="90000"/>
              </a:lnSpc>
              <a:spcBef>
                <a:spcPts val="499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Georgia"/>
              </a:rPr>
              <a:t>Should look at TDS loadings by site</a:t>
            </a:r>
            <a:endParaRPr b="0" lang="en-US" sz="2000" spc="-1" strike="noStrike">
              <a:solidFill>
                <a:srgbClr val="1f497d"/>
              </a:solidFill>
              <a:latin typeface="Georgia"/>
            </a:endParaRPr>
          </a:p>
          <a:p>
            <a:pPr lvl="1" marL="519840" indent="-259200">
              <a:lnSpc>
                <a:spcPct val="90000"/>
              </a:lnSpc>
              <a:spcBef>
                <a:spcPts val="499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Georgia"/>
              </a:rPr>
              <a:t>Add coefficient of variability to table of TDS results</a:t>
            </a:r>
            <a:endParaRPr b="0" lang="en-US" sz="2000" spc="-1" strike="noStrike">
              <a:solidFill>
                <a:srgbClr val="1f497d"/>
              </a:solidFill>
              <a:latin typeface="Georgia"/>
            </a:endParaRPr>
          </a:p>
          <a:p>
            <a:pPr lvl="1" marL="519840" indent="-259200">
              <a:lnSpc>
                <a:spcPct val="90000"/>
              </a:lnSpc>
              <a:spcBef>
                <a:spcPts val="499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Georgia"/>
              </a:rPr>
              <a:t>Did TDS result ever exceed sum of ions?</a:t>
            </a:r>
            <a:endParaRPr b="0" lang="en-US" sz="2000" spc="-1" strike="noStrike">
              <a:solidFill>
                <a:srgbClr val="1f497d"/>
              </a:solidFill>
              <a:latin typeface="Georgia"/>
            </a:endParaRPr>
          </a:p>
          <a:p>
            <a:pPr lvl="1" marL="519840" indent="-259200">
              <a:lnSpc>
                <a:spcPct val="90000"/>
              </a:lnSpc>
              <a:spcBef>
                <a:spcPts val="499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Georgia"/>
              </a:rPr>
              <a:t>Should mention potential impact from frack water disposal  </a:t>
            </a:r>
            <a:endParaRPr b="0" lang="en-US" sz="2000" spc="-1" strike="noStrike">
              <a:solidFill>
                <a:srgbClr val="1f497d"/>
              </a:solidFill>
              <a:latin typeface="Georgia"/>
            </a:endParaRPr>
          </a:p>
          <a:p>
            <a:pPr marL="259200" indent="-259200">
              <a:lnSpc>
                <a:spcPct val="9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Ion Composition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19840" indent="-259200">
              <a:lnSpc>
                <a:spcPct val="90000"/>
              </a:lnSpc>
              <a:spcBef>
                <a:spcPts val="499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Georgia"/>
              </a:rPr>
              <a:t>How were the ion-specific percentages calculated?</a:t>
            </a:r>
            <a:endParaRPr b="0" lang="en-US" sz="2000" spc="-1" strike="noStrike">
              <a:solidFill>
                <a:srgbClr val="1f497d"/>
              </a:solidFill>
              <a:latin typeface="Georgia"/>
            </a:endParaRPr>
          </a:p>
          <a:p>
            <a:pPr marL="259200" indent="-259200">
              <a:lnSpc>
                <a:spcPct val="9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Implications to WQ Standard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19840" indent="-259200">
              <a:lnSpc>
                <a:spcPct val="90000"/>
              </a:lnSpc>
              <a:spcBef>
                <a:spcPts val="499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Georgia"/>
              </a:rPr>
              <a:t>Report is on monitoring results, not toxicity or adverse effects.  Do not see how report on ambient conditions warrants revisiting a WQS.</a:t>
            </a:r>
            <a:endParaRPr b="0" lang="en-US" sz="2000" spc="-1" strike="noStrike">
              <a:solidFill>
                <a:srgbClr val="1f497d"/>
              </a:solidFill>
              <a:latin typeface="Georgia"/>
            </a:endParaRPr>
          </a:p>
          <a:p>
            <a:pPr lvl="1" marL="519840" indent="-259200">
              <a:lnSpc>
                <a:spcPct val="90000"/>
              </a:lnSpc>
              <a:spcBef>
                <a:spcPts val="499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Georgia"/>
              </a:rPr>
              <a:t>Do not agree with statement that stand-alone TDS standard is necessary (x2)</a:t>
            </a:r>
            <a:endParaRPr b="0" lang="en-US" sz="2000" spc="-1" strike="noStrike">
              <a:solidFill>
                <a:srgbClr val="1f497d"/>
              </a:solidFill>
              <a:latin typeface="Georgia"/>
            </a:endParaRPr>
          </a:p>
          <a:p>
            <a:pPr lvl="1" marL="519840" indent="-259200">
              <a:lnSpc>
                <a:spcPct val="90000"/>
              </a:lnSpc>
              <a:spcBef>
                <a:spcPts val="499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1f497d"/>
                </a:solidFill>
                <a:latin typeface="Georgia"/>
              </a:rPr>
              <a:t>Supports need for stand alone TDS standard</a:t>
            </a:r>
            <a:endParaRPr b="0" lang="en-US" sz="2000" spc="-1" strike="noStrike">
              <a:solidFill>
                <a:srgbClr val="1f497d"/>
              </a:solidFill>
              <a:latin typeface="Georgia"/>
            </a:endParaRPr>
          </a:p>
          <a:p>
            <a:pPr lvl="1" marL="519840" indent="-259200">
              <a:lnSpc>
                <a:spcPct val="90000"/>
              </a:lnSpc>
              <a:spcBef>
                <a:spcPts val="499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/>
          </p:nvPr>
        </p:nvSpPr>
        <p:spPr>
          <a:xfrm>
            <a:off x="1368000" y="2743200"/>
            <a:ext cx="64803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1f497d"/>
                </a:solidFill>
                <a:latin typeface="Georgia"/>
              </a:rPr>
              <a:t>Options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87320" indent="-514440">
              <a:spcBef>
                <a:spcPts val="649"/>
              </a:spcBef>
              <a:buClr>
                <a:srgbClr val="c0504d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98989"/>
                </a:solidFill>
                <a:latin typeface="Georgia"/>
              </a:rPr>
              <a:t>Recommend Commission approve report</a:t>
            </a:r>
            <a:endParaRPr b="0" lang="en-US" sz="2600" spc="-1" strike="noStrike">
              <a:solidFill>
                <a:srgbClr val="1f497d"/>
              </a:solidFill>
              <a:latin typeface="Georgia"/>
            </a:endParaRPr>
          </a:p>
          <a:p>
            <a:pPr lvl="1" marL="787320" indent="-514440">
              <a:spcBef>
                <a:spcPts val="649"/>
              </a:spcBef>
              <a:buClr>
                <a:srgbClr val="c0504d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98989"/>
                </a:solidFill>
                <a:latin typeface="Georgia"/>
              </a:rPr>
              <a:t>Direct staff to make revisions; bring back for consideration at February meeting </a:t>
            </a:r>
            <a:endParaRPr b="0" lang="en-US" sz="26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eorgia"/>
              </a:rPr>
              <a:t>TEC Action</a:t>
            </a:r>
            <a:endParaRPr b="0" lang="en-US" sz="4200" spc="-1" strike="noStrike">
              <a:solidFill>
                <a:srgbClr val="88a44d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Study Objectives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301320" y="16765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9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haracterize ambient background levels of TD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9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9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Quantify TDS constituent makeup to evaluate seasonal and spatial variabilit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9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9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evelop site-specific translators to convert conductivity to TD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9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9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rovide data to support possible development of an Ohio River bromide stream criterion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Sampling Design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301320" y="16765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eekly samples collected at 16 sit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llection sites located at water intak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Georgia"/>
              </a:rPr>
              <a:t>Participants identified through the WUAC and PIAC</a:t>
            </a:r>
            <a:endParaRPr b="0" lang="en-US" sz="2200" spc="-1" strike="noStrike">
              <a:solidFill>
                <a:srgbClr val="1f497d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f497d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ampling conducted for 1-yea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Georgia"/>
              </a:rPr>
              <a:t>December, 2011 thru December 2012</a:t>
            </a:r>
            <a:endParaRPr b="0" lang="en-US" sz="2200" spc="-1" strike="noStrike">
              <a:solidFill>
                <a:srgbClr val="1f497d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nalysis – In-house and contract lab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5" name="Picture 3" descr="O:\Dionex Pictures\DSC_1950.JPG"/>
          <p:cNvPicPr/>
          <p:nvPr/>
        </p:nvPicPr>
        <p:blipFill>
          <a:blip r:embed="rId1"/>
          <a:stretch/>
        </p:blipFill>
        <p:spPr>
          <a:xfrm>
            <a:off x="6350040" y="3684600"/>
            <a:ext cx="2565360" cy="180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617" name="Picture 4" descr="TDS.jpg"/>
          <p:cNvPicPr/>
          <p:nvPr/>
        </p:nvPicPr>
        <p:blipFill>
          <a:blip r:embed="rId1"/>
          <a:stretch/>
        </p:blipFill>
        <p:spPr>
          <a:xfrm>
            <a:off x="135000" y="0"/>
            <a:ext cx="887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Analysis 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9" name="Text Placeholder 3"/>
          <p:cNvSpPr/>
          <p:nvPr/>
        </p:nvSpPr>
        <p:spPr>
          <a:xfrm>
            <a:off x="533520" y="1676520"/>
            <a:ext cx="40399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Dissolved Solids Analyte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533520" y="2361960"/>
            <a:ext cx="266688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550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Sodium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550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Potassium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550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Magnesium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550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Calcium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550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Lithium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Content Placeholder 4"/>
          <p:cNvSpPr/>
          <p:nvPr/>
        </p:nvSpPr>
        <p:spPr>
          <a:xfrm>
            <a:off x="457200" y="5105520"/>
            <a:ext cx="40402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spcBef>
                <a:spcPts val="550"/>
              </a:spcBef>
              <a:buClr>
                <a:srgbClr val="4f81bd"/>
              </a:buClr>
              <a:buFont typeface="Georgi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Bicarbonate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550"/>
              </a:spcBef>
              <a:buClr>
                <a:srgbClr val="4f81bd"/>
              </a:buClr>
              <a:buFont typeface="Georgi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Total Dissolved Solid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Rounded Rectangle 7"/>
          <p:cNvSpPr/>
          <p:nvPr/>
        </p:nvSpPr>
        <p:spPr>
          <a:xfrm>
            <a:off x="304920" y="4876920"/>
            <a:ext cx="4419360" cy="129528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3" name="Rounded Rectangle 8"/>
          <p:cNvSpPr/>
          <p:nvPr/>
        </p:nvSpPr>
        <p:spPr>
          <a:xfrm>
            <a:off x="304920" y="2133720"/>
            <a:ext cx="4419360" cy="259056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33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4" name="Text Placeholder 5"/>
          <p:cNvSpPr/>
          <p:nvPr/>
        </p:nvSpPr>
        <p:spPr>
          <a:xfrm>
            <a:off x="5029200" y="1679400"/>
            <a:ext cx="396252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Supplemental Parameter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5025960" y="2403000"/>
            <a:ext cx="396576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pH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Conductivity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Temperature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Stream flow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Rounded Rectangle 11"/>
          <p:cNvSpPr/>
          <p:nvPr/>
        </p:nvSpPr>
        <p:spPr>
          <a:xfrm>
            <a:off x="4876920" y="2133720"/>
            <a:ext cx="3962160" cy="259056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c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7" name="Content Placeholder 4"/>
          <p:cNvSpPr/>
          <p:nvPr/>
        </p:nvSpPr>
        <p:spPr>
          <a:xfrm>
            <a:off x="2743200" y="2438280"/>
            <a:ext cx="22874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spcBef>
                <a:spcPts val="550"/>
              </a:spcBef>
              <a:buClr>
                <a:srgbClr val="4f81bd"/>
              </a:buClr>
              <a:buFont typeface="Georgi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Chloride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550"/>
              </a:spcBef>
              <a:buClr>
                <a:srgbClr val="4f81bd"/>
              </a:buClr>
              <a:buFont typeface="Georgi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Sulfate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550"/>
              </a:spcBef>
              <a:buClr>
                <a:srgbClr val="4f81bd"/>
              </a:buClr>
              <a:buFont typeface="Georgi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Bromide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550"/>
              </a:spcBef>
              <a:buClr>
                <a:srgbClr val="4f81bd"/>
              </a:buClr>
              <a:buFont typeface="Georgi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Fluoride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8" name="Picture 13" descr="O:\Dionex Pictures\DSC_1930.JPG"/>
          <p:cNvPicPr/>
          <p:nvPr/>
        </p:nvPicPr>
        <p:blipFill>
          <a:blip r:embed="rId1"/>
          <a:stretch/>
        </p:blipFill>
        <p:spPr>
          <a:xfrm>
            <a:off x="5732640" y="4822920"/>
            <a:ext cx="2344680" cy="1577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8a44d"/>
                </a:solidFill>
                <a:latin typeface="Georgia"/>
              </a:rPr>
              <a:t>What do the results tell us about ambient levels of TDS?</a:t>
            </a:r>
            <a:endParaRPr b="0" lang="en-US" sz="30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5257440" y="2362320"/>
            <a:ext cx="3965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eak concentration in Ohio River was 368 mg/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Median level 215 mg/L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Highest levels on Muskingum and Big Sandy River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Georgia"/>
              </a:rPr>
              <a:t>584 mg/L and 579 mg/L respectively</a:t>
            </a:r>
            <a:endParaRPr b="0" lang="en-US" sz="2000" spc="-1" strike="noStrike">
              <a:solidFill>
                <a:srgbClr val="1f497d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631" name="Group 5"/>
          <p:cNvGrpSpPr/>
          <p:nvPr/>
        </p:nvGrpSpPr>
        <p:grpSpPr>
          <a:xfrm>
            <a:off x="152280" y="1733400"/>
            <a:ext cx="5105520" cy="3829320"/>
            <a:chOff x="152280" y="1733400"/>
            <a:chExt cx="5105520" cy="3829320"/>
          </a:xfrm>
        </p:grpSpPr>
        <p:pic>
          <p:nvPicPr>
            <p:cNvPr id="632" name="Picture 3" descr=""/>
            <p:cNvPicPr/>
            <p:nvPr/>
          </p:nvPicPr>
          <p:blipFill>
            <a:blip r:embed="rId1"/>
            <a:stretch/>
          </p:blipFill>
          <p:spPr>
            <a:xfrm>
              <a:off x="152280" y="1733400"/>
              <a:ext cx="5105520" cy="382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3" name="Straight Connector 7"/>
            <p:cNvSpPr/>
            <p:nvPr/>
          </p:nvSpPr>
          <p:spPr>
            <a:xfrm>
              <a:off x="641520" y="2604960"/>
              <a:ext cx="3868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Are there seasonal variations?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01680" y="1527120"/>
            <a:ext cx="4346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Highest concentrations observed in late Aug./early Sept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Stream flow is major driver of temporal variation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Concentrations of TDS and most ions are inversely correlated with Q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All OR samples well below 500 mg/L std., even during low flow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6" name="Content Placeholder 4" descr=""/>
          <p:cNvPicPr/>
          <p:nvPr/>
        </p:nvPicPr>
        <p:blipFill>
          <a:blip r:embed="rId1"/>
          <a:stretch/>
        </p:blipFill>
        <p:spPr>
          <a:xfrm>
            <a:off x="5450040" y="1596960"/>
            <a:ext cx="3700440" cy="428616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2" descr=""/>
          <p:cNvPicPr/>
          <p:nvPr/>
        </p:nvPicPr>
        <p:blipFill>
          <a:blip r:embed="rId2"/>
          <a:stretch/>
        </p:blipFill>
        <p:spPr>
          <a:xfrm>
            <a:off x="4952880" y="106668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6" descr=""/>
          <p:cNvPicPr/>
          <p:nvPr/>
        </p:nvPicPr>
        <p:blipFill>
          <a:blip r:embed="rId3"/>
          <a:stretch/>
        </p:blipFill>
        <p:spPr>
          <a:xfrm>
            <a:off x="4572000" y="388620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What are the major ions?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301320" y="1527120"/>
            <a:ext cx="5337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5 ions makeup 93% of TDS in Ohio Riv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Georgia"/>
              </a:rPr>
              <a:t>Sulfate, bicarbonate, calcium, chloride, sodium</a:t>
            </a:r>
            <a:endParaRPr b="0" lang="en-US" sz="2200" spc="-1" strike="noStrike">
              <a:solidFill>
                <a:srgbClr val="1f497d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Bromide is typically &lt;0.05%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Georgia"/>
              </a:rPr>
              <a:t>BUT, not insignificant!</a:t>
            </a:r>
            <a:endParaRPr b="0" lang="en-US" sz="2200" spc="-1" strike="noStrike">
              <a:solidFill>
                <a:srgbClr val="1f497d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f497d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1" name="Content Placeholder 4" descr=""/>
          <p:cNvPicPr/>
          <p:nvPr/>
        </p:nvPicPr>
        <p:blipFill>
          <a:blip r:embed="rId1"/>
          <a:stretch/>
        </p:blipFill>
        <p:spPr>
          <a:xfrm>
            <a:off x="5450040" y="1596960"/>
            <a:ext cx="370044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1T13:12:18Z</dcterms:created>
  <dc:creator>jwisenall</dc:creator>
  <dc:description/>
  <dc:language>en-US</dc:language>
  <cp:lastModifiedBy>jklear</cp:lastModifiedBy>
  <dcterms:modified xsi:type="dcterms:W3CDTF">2013-10-15T15:06:11Z</dcterms:modified>
  <cp:revision>366</cp:revision>
  <dc:subject/>
  <dc:title>ORSANCO  Total Dissolved Solids Project</dc:title>
</cp:coreProperties>
</file>